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580-5D2B-44AD-A76F-1F9B60BC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9033-C625-4493-9BA4-A1B82A85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BF3-E672-4BA9-A513-A61FB1D3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8C3-BA3B-4B44-A025-C6CCEF96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81F9-440B-4096-B103-43CC66C0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DE5-50A3-4063-A058-ECDF6AAF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E903-5925-4262-8A7B-34BCA354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16B0-314C-4B2B-A85B-C1C4B4F6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5A31-3F84-473F-884A-449078DD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943-3517-481E-9AF3-98D5383B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81E-2959-4B2F-BD6D-FDD310E4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9558-0FE1-457A-9600-C9EBACCC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B0A9-358E-4D57-9860-030F35D54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urple Monk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3" descr="purple_monkey.gif"/>
          <p:cNvPicPr/>
          <p:nvPr/>
        </p:nvPicPr>
        <p:blipFill>
          <a:blip r:embed="rId1"/>
          <a:stretch/>
        </p:blipFill>
        <p:spPr>
          <a:xfrm>
            <a:off x="1752480" y="1471680"/>
            <a:ext cx="6096240" cy="5386320"/>
          </a:xfrm>
          <a:prstGeom prst="rect">
            <a:avLst/>
          </a:prstGeom>
          <a:ln w="0">
            <a:noFill/>
          </a:ln>
        </p:spPr>
      </p:pic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52480" y="54100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y all live toge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http://www.bluemonkeyrecycling.com/_wizardimages/Blue%20Monkey.JPG"/>
          <p:cNvPicPr/>
          <p:nvPr/>
        </p:nvPicPr>
        <p:blipFill>
          <a:blip r:embed="rId1"/>
          <a:srcRect l="0" t="23812" r="0" b="2381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7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Placeholder 4" descr="treehouse-2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 a house in a tre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Placeholder 4" descr="treehouse-2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house is yello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Placeholder 4" descr="SchoolBusUSA.jpg"/>
          <p:cNvPicPr/>
          <p:nvPr/>
        </p:nvPicPr>
        <p:blipFill>
          <a:blip r:embed="rId1"/>
          <a:srcRect l="5866" t="0" r="5866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Jen goes to schoo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Placeholder 4" descr="HK_Disneyland_tree_house_by_Dave_Q.jpg"/>
          <p:cNvPicPr/>
          <p:nvPr/>
        </p:nvPicPr>
        <p:blipFill>
          <a:blip r:embed="rId1"/>
          <a:srcRect l="0" t="21875" r="0" b="2187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school is ora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Placeholder 4" descr="cartoon_liger_and_friends_greeting_card-p137419571812524776q0yk_400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en has many friends at schoo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Placeholder 4" descr="greenchuck.jpg"/>
          <p:cNvPicPr/>
          <p:nvPr/>
        </p:nvPicPr>
        <p:blipFill>
          <a:blip r:embed="rId1"/>
          <a:srcRect l="0" t="1026" r="0" b="102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all have green shoes that they we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6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en was the only one who didn’t have green sho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C:\Documents and Settings\lsabey\Local Settings\Temporary Internet Files\Content.IE5\XSJY32GK\MPj04364170000[1].jpg"/>
          <p:cNvPicPr/>
          <p:nvPr/>
        </p:nvPicPr>
        <p:blipFill>
          <a:blip r:embed="rId2"/>
          <a:stretch/>
        </p:blipFill>
        <p:spPr>
          <a:xfrm>
            <a:off x="2438280" y="182880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100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6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Placeholder 4" descr="untitled.bmp"/>
          <p:cNvPicPr/>
          <p:nvPr/>
        </p:nvPicPr>
        <p:blipFill>
          <a:blip r:embed="rId1"/>
          <a:srcRect l="2795" t="0" r="2795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 friends made fun of h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Placeholder 4" descr="Sad_Face_by_hornsholdmyhalo.jpg"/>
          <p:cNvPicPr/>
          <p:nvPr/>
        </p:nvPicPr>
        <p:blipFill>
          <a:blip r:embed="rId1"/>
          <a:srcRect l="0" t="14846" r="0" b="1484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Jen cried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905120" y="533376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re is a monkey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purple_monkey.gif"/>
          <p:cNvPicPr/>
          <p:nvPr/>
        </p:nvPicPr>
        <p:blipFill>
          <a:blip r:embed="rId1"/>
          <a:srcRect l="0" t="7559" r="0" b="755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n she got home, she told her paren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Placeholder 6" descr="22261_happy_pink_monkey_with_a_white_belly_smiling_and_dancing.jpg"/>
          <p:cNvPicPr/>
          <p:nvPr/>
        </p:nvPicPr>
        <p:blipFill>
          <a:blip r:embed="rId1"/>
          <a:srcRect l="0" t="16334" r="0" b="16334"/>
          <a:stretch/>
        </p:blipFill>
        <p:spPr>
          <a:xfrm>
            <a:off x="3378240" y="380880"/>
            <a:ext cx="3860640" cy="3124440"/>
          </a:xfrm>
          <a:prstGeom prst="rect">
            <a:avLst/>
          </a:prstGeom>
          <a:ln w="0">
            <a:noFill/>
          </a:ln>
        </p:spPr>
      </p:pic>
      <p:pic>
        <p:nvPicPr>
          <p:cNvPr id="10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Placeholder 4" descr="22261_happy_pink_monkey_with_a_white_belly_smiling_and_dancing.jpg"/>
          <p:cNvPicPr/>
          <p:nvPr/>
        </p:nvPicPr>
        <p:blipFill>
          <a:blip r:embed="rId1"/>
          <a:srcRect l="0" t="16334" r="0" b="1633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828800" y="54864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told her that she doesn’t have to have every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6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Placeholder 4" descr="purple_monkey.gif"/>
          <p:cNvPicPr/>
          <p:nvPr/>
        </p:nvPicPr>
        <p:blipFill>
          <a:blip r:embed="rId1"/>
          <a:srcRect l="0" t="7559" r="0" b="755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Jen got back to school she told her friends t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6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Placeholder 4" descr="cartoon_liger_and_friends_greeting_card-p137419571812524776q0yk_400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stopped making fun of Jen and they were all friends ag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70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981080" y="54100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he is </a:t>
            </a:r>
            <a:r>
              <a:rPr b="0" lang="en-US" sz="6600" spc="-1" strike="noStrike">
                <a:solidFill>
                  <a:srgbClr val="6600cc"/>
                </a:solidFill>
                <a:latin typeface="Calibri"/>
              </a:rPr>
              <a:t>purpl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purple_monkey.gif"/>
          <p:cNvPicPr/>
          <p:nvPr/>
        </p:nvPicPr>
        <p:blipFill>
          <a:blip r:embed="rId1"/>
          <a:srcRect l="0" t="7559" r="0" b="755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er name is J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purple_monkey.gif"/>
          <p:cNvPicPr/>
          <p:nvPr/>
        </p:nvPicPr>
        <p:blipFill>
          <a:blip r:embed="rId1"/>
          <a:srcRect l="0" t="7559" r="0" b="7559"/>
          <a:stretch/>
        </p:blipFill>
        <p:spPr>
          <a:xfrm>
            <a:off x="1676520" y="228600"/>
            <a:ext cx="6192720" cy="4648320"/>
          </a:xfrm>
          <a:prstGeom prst="rect">
            <a:avLst/>
          </a:prstGeom>
          <a:ln w="0">
            <a:noFill/>
          </a:ln>
        </p:spPr>
      </p:pic>
      <p:pic>
        <p:nvPicPr>
          <p:cNvPr id="5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he is 7 years ol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upload.wikimedia.org/wikipedia/en/d/d7/7NumberSevenInCircle.png"/>
          <p:cNvPicPr/>
          <p:nvPr/>
        </p:nvPicPr>
        <p:blipFill>
          <a:blip r:embed="rId1"/>
          <a:srcRect l="0" t="12497" r="0" b="1249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he has a mother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er mom is pink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Placeholder 3" descr="22261_happy_pink_monkey_with_a_white_belly_smiling_and_dancing.jpg"/>
          <p:cNvPicPr/>
          <p:nvPr/>
        </p:nvPicPr>
        <p:blipFill>
          <a:blip r:embed="rId1"/>
          <a:srcRect l="0" t="16334" r="0" b="1633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he has a father too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http://www.bluemonkeyrecycling.com/_wizardimages/Blue%20Monkey.JPG"/>
          <p:cNvPicPr/>
          <p:nvPr/>
        </p:nvPicPr>
        <p:blipFill>
          <a:blip r:embed="rId1"/>
          <a:srcRect l="0" t="23812" r="0" b="23812"/>
          <a:stretch/>
        </p:blipFill>
        <p:spPr>
          <a:xfrm>
            <a:off x="2743200" y="1066680"/>
            <a:ext cx="4535640" cy="366084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828800" y="50292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er dad is </a:t>
            </a: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blue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http://www.bluemonkeyrecycling.com/_wizardimages/Blue%20Monkey.JPG"/>
          <p:cNvPicPr/>
          <p:nvPr/>
        </p:nvPicPr>
        <p:blipFill>
          <a:blip r:embed="rId1"/>
          <a:srcRect l="0" t="23812" r="0" b="23812"/>
          <a:stretch/>
        </p:blipFill>
        <p:spPr>
          <a:xfrm>
            <a:off x="457200" y="304920"/>
            <a:ext cx="4840200" cy="4316400"/>
          </a:xfrm>
          <a:prstGeom prst="rect">
            <a:avLst/>
          </a:prstGeom>
          <a:ln w="0">
            <a:noFill/>
          </a:ln>
        </p:spPr>
      </p:pic>
      <p:pic>
        <p:nvPicPr>
          <p:cNvPr id="6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8:21:46Z</dcterms:created>
  <dc:creator>itsuser</dc:creator>
  <dc:description/>
  <dc:language>en-US</dc:language>
  <cp:lastModifiedBy>itsuser</cp:lastModifiedBy>
  <dcterms:modified xsi:type="dcterms:W3CDTF">2009-04-09T16:45:05Z</dcterms:modified>
  <cp:revision>9</cp:revision>
  <dc:subject/>
  <dc:title>The Purple Monkey</dc:title>
</cp:coreProperties>
</file>